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B50-7DC8-453B-A451-E6E8BC36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F93-8728-4399-B9F0-46727476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26A-3B7C-4024-B6FA-5C59D2D1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B93-93F1-4D93-80A0-C432F624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2D8-FA8F-48D6-9D2F-ED0DD47F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1D1-A8CC-4556-916A-A355109B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4566-C69F-4D41-A9D5-1F513875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2D4C-28BD-4D42-B555-A2083746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9065-6C1D-4CB4-9095-F8E66B00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98D-42FB-4A9E-BFBE-30B93007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E7A-4C4E-4C38-AD3F-1F9A3905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043-26B2-463E-9883-041E927F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F97B-2D18-4294-B159-8CFC97EAB0B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cuc0@mail.ru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2682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dLib BT"/>
              </a:rPr>
              <a:t>Analisis Pre-Mor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2276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nalisis de los procesos en tiemp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437000"/>
            <a:ext cx="58341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360" y="4581360"/>
            <a:ext cx="259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colas Wai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SN Security, 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dsnsecurit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 camino de una fun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1989000"/>
            <a:ext cx="4392720" cy="118908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lamar una fun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x8048f40 &lt;usage+12&gt;:   push   %e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x8048f41 &lt;usage+13&gt;:   push   $0x804d2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x8048f46 &lt;usage+18&gt;:   mov    0x8050364,%e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x8048f4b &lt;usage+23&gt;:   push   %e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x8048f4c &lt;usage+24&gt;:   </a:t>
            </a:r>
            <a:r>
              <a:rPr b="0" lang="en-US" sz="1200" spc="-1" strike="noStrike">
                <a:solidFill>
                  <a:srgbClr val="ff9900"/>
                </a:solidFill>
                <a:latin typeface="Verdana"/>
              </a:rPr>
              <a:t>call   0x8048978 &lt;fprintf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3640" y="4005360"/>
            <a:ext cx="396108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 jmp    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e &lt;fprintf+6&gt;:   push   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jmp    0x8048928 &lt;_init+4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659640" y="2421000"/>
            <a:ext cx="1224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31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01080" y="2133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37 -0.00949 C 0.06302 -0.01158 0.0625 -0.01551 0.0625 -0.01551 C 0.05695 -0.01273 0.05313 -0.0169 0.04809 -0.01898 C 0.04323 -0.02338 0.04046 -0.03102 0.03473 -0.03334 C 0.02865 -0.03866 0.03143 -0.03704 0.02674 -0.03912 C 0.02292 -0.04491 0.01632 -0.04815 0.01059 -0.05 C 0.00573 -0.05324 0.00157 -0.05625 -0.00365 -0.05834 C -0.00973 -0.06366 -0.00209 -0.05764 -0.01077 -0.06181 C -0.01962 -0.06621 -0.02883 -0.07037 -0.03837 -0.07246 C -0.04306 -0.07477 -0.04705 -0.07639 -0.05192 -0.07732 C -0.06094 -0.08125 -0.07119 -0.07917 -0.08039 -0.07847 C -0.08646 -0.07755 -0.09202 -0.07593 -0.09827 -0.075 C -0.10244 -0.07315 -0.10643 -0.07222 -0.11077 -0.0713 C -0.11667 -0.06875 -0.12153 -0.06667 -0.12778 -0.06551 C -0.13785 -0.06019 -0.1474 -0.05625 -0.15817 -0.05463 C -0.16511 -0.05162 -0.17223 -0.04861 -0.17952 -0.0463 C -0.17466 -0.04421 -0.15973 -0.04746 -0.15817 -0.04746 C -0.14619 -0.04653 -0.14549 -0.05023 -0.13942 -0.04398 C -0.13646 -0.04097 -0.13646 -0.03959 -0.13403 -0.03449 C -0.13282 -0.03218 -0.13039 -0.02732 -0.13039 -0.02732 C -0.13074 -0.02616 -0.13056 -0.02477 -0.13126 -0.02384 C -0.13421 -0.01991 -0.14758 -0.01759 -0.15192 -0.01667 C -0.1566 -0.01459 -0.16146 -0.01273 -0.16615 -0.01065 C -0.16702 -0.01019 -0.16789 -0.00996 -0.16876 -0.00949 C -0.16962 -0.00903 -0.17258 -0.00834 -0.17153 -0.00834 C -0.16528 -0.0088 -0.15903 -0.00903 -0.15278 -0.00949 C -0.13438 -0.00903 -0.10278 -0.02755 -0.09567 0.00116 C -0.09619 0.00509 -0.09549 0.00856 -0.09827 0.01088 C -0.10174 0.01389 -0.10782 0.01412 -0.11164 0.01551 C -0.11789 0.01782 -0.12414 0.02106 -0.13039 0.02384 C -0.13438 0.02569 -0.12205 0.02315 -0.11789 0.02268 C -0.11112 0.02199 -0.0974 0.02037 -0.0974 0.02037 C -0.08282 0.01666 -0.0658 0.01643 -0.05087 0.01551 C -0.04514 0.01458 -0.04028 0.01273 -0.0349 0.01088 C -0.02726 0.00555 -0.00851 3.7037E-006 -5E-006 3.7037E-006 E">
                                      <p:cBhvr>
                                        <p:cTn id="18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2 -0.00092 C -0.00504 0.00579 -0.00504 0.01204 -0.0073 0.01806 C -0.01268 0.03195 -0.02431 0.03796 -0.0349 0.04074 C -0.04358 0.04306 -0.05191 0.04792 -0.06077 0.05023 C -0.06632 0.05486 -0.06129 0.05139 -0.07153 0.05371 C -0.08924 0.05764 -0.10487 0.05996 -0.12327 0.06088 C -0.14202 0.0669 -0.16355 0.06621 -0.1823 0.0669 C -0.18264 0.06713 -0.18785 0.06875 -0.18855 0.06921 C -0.18924 0.06991 -0.18959 0.0713 -0.19028 0.07176 C -0.19375 0.07431 -0.19879 0.07523 -0.20278 0.07639 C -0.2066 0.07894 -0.21042 0.08195 -0.21441 0.08357 C -0.21771 0.08634 -0.21945 0.09028 -0.22327 0.0919 C -0.22917 0.09931 -0.23334 0.10834 -0.23941 0.11574 C -0.2408 0.12107 -0.24445 0.12315 -0.24115 0.13009 C -0.23993 0.13241 -0.2375 0.1331 -0.23577 0.13472 C -0.22987 0.13982 -0.22309 0.14167 -0.21615 0.14306 C -0.20417 0.1419 -0.20834 0.1419 -0.20365 0.1419 E">
                                      <p:cBhvr>
                                        <p:cTn id="192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LT (Procedure Linkage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170028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1557360"/>
            <a:ext cx="74898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irecciona pic functions to absolute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mite el lazy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T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sh GOT[1]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* link_map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mp  GOT[2]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* funcion para resolver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T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mp GOT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sh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mp PLT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T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mp GOT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sh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mp PLT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4005360"/>
            <a:ext cx="3887640" cy="641520"/>
          </a:xfrm>
          <a:prstGeom prst="rect">
            <a:avLst/>
          </a:prstGeom>
          <a:solidFill>
            <a:srgbClr val="c0c0c0"/>
          </a:solidFill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 jmp 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e &lt;fprintf+6&gt;:   push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jmp 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0x804892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_init+4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2276640"/>
            <a:ext cx="6264360" cy="3889080"/>
          </a:xfrm>
          <a:prstGeom prst="rect">
            <a:avLst/>
          </a:prstGeom>
          <a:noFill/>
          <a:ln w="19080">
            <a:solidFill>
              <a:srgbClr val="1e03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1125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OT (Global Offset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170028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484360" y="2205000"/>
          <a:ext cx="6121080" cy="3168720"/>
        </p:xfrm>
        <a:graphic>
          <a:graphicData uri="http://schemas.openxmlformats.org/drawingml/2006/table">
            <a:tbl>
              <a:tblPr/>
              <a:tblGrid>
                <a:gridCol w="612108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nt to DYNA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_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lution 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619280" y="2205000"/>
          <a:ext cx="744480" cy="3166920"/>
        </p:xfrm>
        <a:graphic>
          <a:graphicData uri="http://schemas.openxmlformats.org/drawingml/2006/table">
            <a:tbl>
              <a:tblPr/>
              <a:tblGrid>
                <a:gridCol w="74448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os caminos de ejecu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170028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1628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2492280"/>
            <a:ext cx="388764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 jmp 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e &lt;fprintf+6&gt;:   push   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jmp    0x8048928 &lt;_init+4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812000" y="2852640"/>
          <a:ext cx="1176120" cy="1270080"/>
        </p:xfrm>
        <a:graphic>
          <a:graphicData uri="http://schemas.openxmlformats.org/drawingml/2006/table">
            <a:tbl>
              <a:tblPr/>
              <a:tblGrid>
                <a:gridCol w="1176120"/>
              </a:tblGrid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x40085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588000" y="2852640"/>
          <a:ext cx="1175040" cy="1368360"/>
        </p:xfrm>
        <a:graphic>
          <a:graphicData uri="http://schemas.openxmlformats.org/drawingml/2006/table">
            <a:tbl>
              <a:tblPr/>
              <a:tblGrid>
                <a:gridCol w="117504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0x8052d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e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2700360" y="436572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19280" y="4653000"/>
            <a:ext cx="388944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0x400853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fprintf&gt;:      push   %eb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40085361 &lt;fprintf+1&gt;:  mov    %esp,%eb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40085363 &lt;fprintf+3&gt;:  sub    $0x14,%e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19280" y="213372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24210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19280" y="4221000"/>
            <a:ext cx="28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printf  (lib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80000" y="263700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276720" y="3500280"/>
            <a:ext cx="3311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os caminos de ejecu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170028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162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 Re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2492280"/>
            <a:ext cx="388764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 jmp 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0x804897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fprintf+6&gt;:   push   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jmp    </a:t>
            </a: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0x80489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_init+4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12000" y="2852640"/>
          <a:ext cx="1176480" cy="1270080"/>
        </p:xfrm>
        <a:graphic>
          <a:graphicData uri="http://schemas.openxmlformats.org/drawingml/2006/table">
            <a:tbl>
              <a:tblPr/>
              <a:tblGrid>
                <a:gridCol w="1176480"/>
              </a:tblGrid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x0804897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588000" y="2852640"/>
          <a:ext cx="1175040" cy="1368360"/>
        </p:xfrm>
        <a:graphic>
          <a:graphicData uri="http://schemas.openxmlformats.org/drawingml/2006/table">
            <a:tbl>
              <a:tblPr/>
              <a:tblGrid>
                <a:gridCol w="117504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0x8052d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e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2700360" y="436572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19280" y="213372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24210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0000" y="263700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580000" y="285228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4653000"/>
            <a:ext cx="3889440" cy="45900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0x80489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_init+40&gt;:   pushl  </a:t>
            </a:r>
            <a:r>
              <a:rPr b="0" lang="en-US" sz="1200" spc="-1" strike="noStrike">
                <a:solidFill>
                  <a:srgbClr val="9900ff"/>
                </a:solidFill>
                <a:latin typeface="Arial"/>
              </a:rPr>
              <a:t>0x80502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2e &lt;_init+46&gt;:   jmp    </a:t>
            </a:r>
            <a:r>
              <a:rPr b="0" lang="en-US" sz="1200" spc="-1" strike="noStrike">
                <a:solidFill>
                  <a:srgbClr val="9900ff"/>
                </a:solidFill>
                <a:latin typeface="Arial"/>
              </a:rPr>
              <a:t>*0x80502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422100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T entry 0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195640" y="3213000"/>
            <a:ext cx="194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738920" y="4940280"/>
          <a:ext cx="1176480" cy="1270080"/>
        </p:xfrm>
        <a:graphic>
          <a:graphicData uri="http://schemas.openxmlformats.org/drawingml/2006/table">
            <a:tbl>
              <a:tblPr/>
              <a:tblGrid>
                <a:gridCol w="1176480"/>
              </a:tblGrid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_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l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6515280" y="4940280"/>
          <a:ext cx="1174680" cy="1368360"/>
        </p:xfrm>
        <a:graphic>
          <a:graphicData uri="http://schemas.openxmlformats.org/drawingml/2006/table">
            <a:tbl>
              <a:tblPr/>
              <a:tblGrid>
                <a:gridCol w="1174680"/>
              </a:tblGrid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02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ff"/>
                          </a:solidFill>
                          <a:latin typeface="Verdana"/>
                        </a:rPr>
                        <a:t>0x80502c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ff"/>
                          </a:solidFill>
                          <a:latin typeface="Verdana"/>
                        </a:rPr>
                        <a:t>0x80502c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02c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7093080" y="4437000"/>
            <a:ext cx="179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ncipio de la GO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5229360"/>
            <a:ext cx="1366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98100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Relocation Entries (JMPREL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263700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f32_R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_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_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47640" y="1700280"/>
            <a:ext cx="712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el proceso de conexion de refrencias simbolicas con definiciones simbolic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69228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Obteniendo la inform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1989000"/>
            <a:ext cx="3095640" cy="45900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28 &lt;_init+40&gt;:   push  </a:t>
            </a: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GOT[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2e &lt;_init+46&gt;:   jmp  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*GOT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51640" y="170028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T entry 0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2781360"/>
            <a:ext cx="4321080" cy="398880"/>
          </a:xfrm>
          <a:prstGeom prst="rect">
            <a:avLst/>
          </a:prstGeom>
          <a:noFill/>
          <a:ln w="936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sol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rel_off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link_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47640" y="1989000"/>
            <a:ext cx="388800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 jmp    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e &lt;fprintf+6&gt;:   push   </a:t>
            </a:r>
            <a:r>
              <a:rPr b="0" lang="en-US" sz="1200" spc="-1" strike="noStrike">
                <a:solidFill>
                  <a:srgbClr val="9900ff"/>
                </a:solidFill>
                <a:latin typeface="Arial"/>
              </a:rPr>
              <a:t>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jmp    0x8048928 &lt;_init+4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47640" y="170028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627280" y="3213000"/>
            <a:ext cx="2016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35280" y="4581360"/>
            <a:ext cx="136836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_off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_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Verdana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3ce00"/>
                </a:solidFill>
                <a:latin typeface="Arial"/>
              </a:rPr>
              <a:t>r_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8920" y="4149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rel_off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JMP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596360" y="3716280"/>
          <a:ext cx="1176120" cy="1270080"/>
        </p:xfrm>
        <a:graphic>
          <a:graphicData uri="http://schemas.openxmlformats.org/drawingml/2006/table">
            <a:tbl>
              <a:tblPr/>
              <a:tblGrid>
                <a:gridCol w="1176120"/>
              </a:tblGrid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804897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372360" y="3716280"/>
          <a:ext cx="1174680" cy="1368360"/>
        </p:xfrm>
        <a:graphic>
          <a:graphicData uri="http://schemas.openxmlformats.org/drawingml/2006/table">
            <a:tbl>
              <a:tblPr/>
              <a:tblGrid>
                <a:gridCol w="117468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0x8052d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e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6877080" y="3284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203640" y="4220640"/>
            <a:ext cx="3240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3640" y="5229360"/>
            <a:ext cx="720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5300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TAB[</a:t>
            </a:r>
            <a:r>
              <a:rPr b="0" lang="en-US" sz="1400" spc="-1" strike="noStrike">
                <a:solidFill>
                  <a:srgbClr val="d3ce00"/>
                </a:solidFill>
                <a:latin typeface="Arial"/>
              </a:rPr>
              <a:t>ELF_R_SYM(r_inf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5661000"/>
            <a:ext cx="1441440" cy="631440"/>
          </a:xfrm>
          <a:prstGeom prst="rect">
            <a:avLst/>
          </a:prstGeom>
          <a:noFill/>
          <a:ln w="9360">
            <a:solidFill>
              <a:srgbClr val="1e03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f32_S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6360" y="6165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29440" y="587700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STRT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51640" y="602136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printf\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ink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19280" y="177336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uble link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da elf object (ejecutable y shared library) 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ectado por l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ink_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ilizada para la resolucion de symbol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27280" y="3357720"/>
            <a:ext cx="49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 link_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_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_pr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_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_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ink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227664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 que en runti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locidad en Loa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 non wri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 tarea la realiza el rt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uelve la primera vez que es ejecu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esolv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47640" y="256536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rer la link_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iene informacion de cad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re la Hash table de cada shared object, y compara los nombres deb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1628640"/>
            <a:ext cx="4321080" cy="398880"/>
          </a:xfrm>
          <a:prstGeom prst="rect">
            <a:avLst/>
          </a:prstGeom>
          <a:noFill/>
          <a:ln w="936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sol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rel_off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link_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32000" y="1916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dLib BT"/>
              </a:rPr>
              <a:t>Introducc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10400" y="34290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Conociendo 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47640" y="1125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47640" y="170028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476360" y="1700280"/>
          <a:ext cx="3527280" cy="4808520"/>
        </p:xfrm>
        <a:graphic>
          <a:graphicData uri="http://schemas.openxmlformats.org/drawingml/2006/table">
            <a:tbl>
              <a:tblPr/>
              <a:tblGrid>
                <a:gridCol w="352728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buc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h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ket[0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6b3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6b33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ket[nbucket-1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6b3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in[0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in[nchain-1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5219640" y="1700280"/>
            <a:ext cx="3816360" cy="435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nsigned l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f_hash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on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nsigned 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nam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nsigned l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nam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= (h&lt;&lt;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*name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g = h &amp;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xf000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^= g &gt;&gt; 2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&amp;= ~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uncion de Busqueda (pseudo-c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47640" y="256536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24000" y="2133720"/>
            <a:ext cx="61200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ink_map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=elf_hash(funcion_buscad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dx=buckets[ hash % nbuckets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x !=STN_UNDEF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x=nchain[ndx]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= symtab + n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name=strtab + symbol.s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strcmp(symname, funcion_buscada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symbo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_map=link_map-&gt;n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6120000" cy="2863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908000" y="4149720"/>
            <a:ext cx="5185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an Pablo Martinez Ku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uc0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las Wai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zb0@whatever.org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22160" y="98100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c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1844640"/>
            <a:ext cx="8208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ramienta para analizar caracteristicas de 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endizaje sobr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isis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cion de Anomalias en elf -&gt; Deteccion d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cion de Backdo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cion de programas siendo explotados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 INSERTE SU USO ACA 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tos del diseñ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baje en userland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iente de /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eccionar &amp; Most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ro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90720" y="9810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t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1628640"/>
            <a:ext cx="85694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trace es una llamada al sistema que permite a un proceso observar y controlar el fujo de ejecucion de otro proceso, y examinar y modificar la imagen del proceso y los registr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ong 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trace(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enum __ptrace_requ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,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id_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id,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oid 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r,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oid 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_ATT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rograma se atacha a un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_DET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rograma libera e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_READ_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e un word en la direccion especificada de la core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_WRITE_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ribe un word en la direccion especifica de la cor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777564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720" y="62064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tructura Basica de 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8360" y="1125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display the ELF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3640" y="1125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-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the Program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92360" y="436572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-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display DYNA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464000" cy="26496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003640" y="1484280"/>
            <a:ext cx="4140360" cy="26481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5003640" y="4292640"/>
            <a:ext cx="374364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59960" y="62064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mb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1700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280" y="220500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-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Symbol table through 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4392720" cy="213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539640" y="4365720"/>
          <a:ext cx="1656000" cy="2249280"/>
        </p:xfrm>
        <a:graphic>
          <a:graphicData uri="http://schemas.openxmlformats.org/drawingml/2006/table">
            <a:tbl>
              <a:tblPr/>
              <a:tblGrid>
                <a:gridCol w="165600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f32_S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f32_S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539640" y="4005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4000" y="4365720"/>
            <a:ext cx="0" cy="1800000"/>
          </a:xfrm>
          <a:prstGeom prst="line">
            <a:avLst/>
          </a:prstGeom>
          <a:ln w="93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659640" y="4221000"/>
          <a:ext cx="1606320" cy="2232000"/>
        </p:xfrm>
        <a:graphic>
          <a:graphicData uri="http://schemas.openxmlformats.org/drawingml/2006/table">
            <a:tbl>
              <a:tblPr/>
              <a:tblGrid>
                <a:gridCol w="1606320"/>
              </a:tblGrid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uc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h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cket[x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hain[x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659640" y="3789360"/>
            <a:ext cx="15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12000" y="4724280"/>
            <a:ext cx="50472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2411280" y="4652640"/>
            <a:ext cx="4105440" cy="5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211480" y="5084640"/>
          <a:ext cx="869760" cy="15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1480" y="5084640"/>
                    <a:ext cx="86976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212920" y="4941720"/>
            <a:ext cx="1224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03080" y="62064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56000" y="11970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Reloca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835280" y="2205000"/>
            <a:ext cx="7057800" cy="3654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859280" y="5013360"/>
            <a:ext cx="432000" cy="1224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95640" y="630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ymbol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195640" y="5013360"/>
            <a:ext cx="503280" cy="1224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03280" y="6237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Got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500360" y="1989000"/>
            <a:ext cx="502920" cy="1800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642920" y="1989000"/>
            <a:ext cx="576360" cy="237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1640" y="162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ype of 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67680" y="620640"/>
            <a:ext cx="31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ack Argv &amp; En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16000" y="119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process stack environment (ARGV[] and ENVP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195640" y="1628640"/>
            <a:ext cx="4537080" cy="360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3" name=""/>
          <p:cNvGraphicFramePr/>
          <p:nvPr/>
        </p:nvGraphicFramePr>
        <p:xfrm>
          <a:off x="179280" y="5805360"/>
          <a:ext cx="8713800" cy="360360"/>
        </p:xfrm>
        <a:graphic>
          <a:graphicData uri="http://schemas.openxmlformats.org/drawingml/2006/table">
            <a:tbl>
              <a:tblPr/>
              <a:tblGrid>
                <a:gridCol w="1089000"/>
                <a:gridCol w="1089000"/>
                <a:gridCol w="1089360"/>
                <a:gridCol w="1090440"/>
                <a:gridCol w="1089000"/>
                <a:gridCol w="1089000"/>
                <a:gridCol w="1089000"/>
                <a:gridCol w="10890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v[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v[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p[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p[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11253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Ejecucion de un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24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492280"/>
            <a:ext cx="1873440" cy="1081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27440" y="3063960"/>
            <a:ext cx="9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2924280"/>
            <a:ext cx="187344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6360" y="2492280"/>
            <a:ext cx="4032360" cy="3241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2852640"/>
            <a:ext cx="403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2492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314172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_exe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ca el rtld en el bin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pea el interp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pea el ejecutal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ea la AU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ings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arg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321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19320" y="620640"/>
            <a:ext cx="26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uxiliary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119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Auxiliary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900000" y="6021360"/>
          <a:ext cx="7921440" cy="360360"/>
        </p:xfrm>
        <a:graphic>
          <a:graphicData uri="http://schemas.openxmlformats.org/drawingml/2006/table">
            <a:tbl>
              <a:tblPr/>
              <a:tblGrid>
                <a:gridCol w="1296720"/>
                <a:gridCol w="1366920"/>
                <a:gridCol w="1152720"/>
                <a:gridCol w="1008000"/>
                <a:gridCol w="1008000"/>
                <a:gridCol w="1008000"/>
                <a:gridCol w="1081080"/>
              </a:tblGrid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xv[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xv[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v[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</a:tbl>
          </a:graphicData>
        </a:graphic>
      </p:graphicFrame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4896000" cy="39546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 flipH="1">
            <a:off x="3348000" y="2492280"/>
            <a:ext cx="2519280" cy="9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492360" y="3645000"/>
            <a:ext cx="2448000" cy="215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3419640" y="4149720"/>
            <a:ext cx="2304720" cy="719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40360" y="22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HDR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56360" y="342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tld Bas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796000" y="47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xecutable 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971280" y="5805360"/>
            <a:ext cx="7777080" cy="0"/>
          </a:xfrm>
          <a:prstGeom prst="line">
            <a:avLst/>
          </a:prstGeom>
          <a:ln w="93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17080" y="620640"/>
            <a:ext cx="46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inar areas de mem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59280" y="1197000"/>
            <a:ext cx="23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as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56181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17080" y="620640"/>
            <a:ext cx="46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inar areas de mem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486900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Hex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80000" y="14842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5113080" cy="31161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3419640" y="4797360"/>
            <a:ext cx="54720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23560" y="62064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omalias en 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71640" y="1197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Abnormal Elf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75600" y="206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Padding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971640" y="2637000"/>
          <a:ext cx="3240000" cy="327168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54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TTTTTTTTTTTTTTTTTTTT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TTTTTTTTTTTTTTTTTTT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PPPPPPPPPPPPPPPPP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PPPPPPPPPPPPPPPPP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DDDDDDDDDDDDDDDD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DDDDDDDDDDDDDDDD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324000" y="2852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4581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2880" y="263700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-2880" y="429264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84720" y="2924280"/>
            <a:ext cx="863640" cy="936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4284360" y="3860640"/>
            <a:ext cx="863640" cy="648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284720" y="4508280"/>
            <a:ext cx="934920" cy="64908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4284360" y="3933360"/>
            <a:ext cx="934920" cy="57492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443640" y="4292640"/>
            <a:ext cx="2521080" cy="955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0x80492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0x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43640" y="2637000"/>
            <a:ext cx="2521080" cy="955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0x8048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0x0x45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4284360" y="2708280"/>
            <a:ext cx="2158920" cy="4334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284360" y="3429000"/>
            <a:ext cx="2158920" cy="287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284360" y="4797360"/>
            <a:ext cx="2158920" cy="71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284360" y="5084640"/>
            <a:ext cx="2158920" cy="720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06160" y="62064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omalias en 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11600" y="11970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Phdr Anom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4000" y="184464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PHD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 0x80480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c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=      r-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 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342900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INTER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0x80480f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0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4000" y="501336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DYNAM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 0x80494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c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=      rw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 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372360" y="184464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LO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0x8048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4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=      r-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 0x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342900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LO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0x80494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=      rw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 0x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72360" y="501336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NO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 0x80481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 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51280" y="19890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cantida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51280" y="26370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alineac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51280" y="34290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permis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19640" y="2852640"/>
            <a:ext cx="100800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19640" y="2852640"/>
            <a:ext cx="1081080" cy="18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48360" y="3645000"/>
            <a:ext cx="1152360" cy="792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148360" y="2924280"/>
            <a:ext cx="1152360" cy="7207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06160" y="62064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omalias en 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11600" y="11970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Ehdr Anom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4000" y="2421000"/>
            <a:ext cx="2520720" cy="12801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Ehdr (PT_PHD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_phoff =       0x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_phentsize= 0x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_entry=        0x8048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5651640" y="2852640"/>
          <a:ext cx="3240000" cy="327168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TTTTTTTTTTTTTTTTTTTT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TTTTTTTTTTTTTTTTTTT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PPPPPPPPPPPPPPPPP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PPPPPPPPPPPPPPPPP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DDDDDDDDDDDDDDDD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DDDDDDDDDDDDDDDD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</a:tbl>
          </a:graphicData>
        </a:graphic>
      </p:graphicFrame>
      <p:sp>
        <p:nvSpPr>
          <p:cNvPr id="372" name=""/>
          <p:cNvSpPr/>
          <p:nvPr/>
        </p:nvSpPr>
        <p:spPr>
          <a:xfrm>
            <a:off x="5508720" y="2421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8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8360" y="407664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Offset del phd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46530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Tamano del phd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68360" y="515772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Donde apunta el ent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43280" y="2565360"/>
            <a:ext cx="2665440" cy="503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43280" y="2565360"/>
            <a:ext cx="2665440" cy="20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43280" y="2565360"/>
            <a:ext cx="2736720" cy="3959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219640" y="6092640"/>
            <a:ext cx="287280" cy="28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19640" y="6093000"/>
            <a:ext cx="287280" cy="28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076720" y="4221000"/>
            <a:ext cx="287280" cy="285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076720" y="4221000"/>
            <a:ext cx="287280" cy="285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0920" y="2637000"/>
            <a:ext cx="1152360" cy="95580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0920" y="3571920"/>
            <a:ext cx="1152360" cy="95580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0920" y="4508640"/>
            <a:ext cx="1152360" cy="95580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9280" y="227664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MP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3635280" y="2637000"/>
          <a:ext cx="1176480" cy="1269720"/>
        </p:xfrm>
        <a:graphic>
          <a:graphicData uri="http://schemas.openxmlformats.org/drawingml/2006/table">
            <a:tbl>
              <a:tblPr/>
              <a:tblGrid>
                <a:gridCol w="1176480"/>
              </a:tblGrid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804897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40085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2411280" y="2637000"/>
          <a:ext cx="1175040" cy="1368360"/>
        </p:xfrm>
        <a:graphic>
          <a:graphicData uri="http://schemas.openxmlformats.org/drawingml/2006/table">
            <a:tbl>
              <a:tblPr/>
              <a:tblGrid>
                <a:gridCol w="117504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0x8052d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e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1403280" y="3141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32000" y="220500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788000" y="1916280"/>
            <a:ext cx="28872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2276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76720" y="1773360"/>
            <a:ext cx="388800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 jm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e &lt;fprintf+6&gt;:  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pu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jm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56b33"/>
                </a:solidFill>
                <a:latin typeface="Arial"/>
              </a:rPr>
              <a:t>0x80489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8317080" y="191628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8332920" y="210168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076720" y="1125360"/>
            <a:ext cx="388800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68 :   push got[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6e :  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jmp   got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3 :   nop; n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8339040" y="228456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716360" y="76500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403280" y="3499920"/>
            <a:ext cx="1081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859280" y="350028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4797360"/>
            <a:ext cx="2521080" cy="337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ver y Compa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78680" y="907920"/>
            <a:ext cx="33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omalias en la 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71640" y="1484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Got/Plt integirty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C -0.00277 -0.00371 -0.00399 -0.00973 -0.00625 -0.01436 C -0.01024 -0.02246 -0.01788 -0.02848 -0.02326 -0.03473 C -0.03072 -0.04329 -0.03888 -0.05 -0.04739 -0.05718 C -0.0519 -0.06088 -0.05503 -0.06528 -0.05989 -0.06806 C -0.06406 -0.07361 -0.07222 -0.07871 -0.07777 -0.08218 C -0.08281 -0.08936 -0.09097 -0.0919 -0.09826 -0.09422 C -0.10069 -0.0963 -0.10625 -0.09885 -0.10625 -0.09861 C -0.11579 -0.10764 -0.13732 -0.11273 -0.14913 -0.11667 C -0.1592 -0.12014 -0.16927 -0.12477 -0.17951 -0.12755 C -0.18593 -0.12917 -0.18437 -0.12778 -0.1894 -0.12986 C -0.19461 -0.13195 -0.2 -0.13542 -0.20538 -0.13704 C -0.21875 -0.14098 -0.23368 -0.1419 -0.24739 -0.14306 C -0.26319 -0.14723 -0.27951 -0.14699 -0.29565 -0.14769 C -0.33211 -0.15301 -0.30625 -0.15 -0.37326 -0.14885 C -0.38229 -0.14746 -0.39097 -0.14491 -0.4 -0.14306 C -0.40972 -0.1382 -0.42326 -0.1301 -0.43125 -0.12037 C -0.43437 -0.11667 -0.43732 -0.11135 -0.44114 -0.10973 C -0.44461 -0.10463 -0.45399 -0.09236 -0.45815 -0.09051 C -0.46111 -0.08496 -0.46423 -0.07871 -0.46788 -0.07385 C -0.46961 -0.07153 -0.47222 -0.07037 -0.47413 -0.06806 C -0.47986 -0.06111 -0.48472 -0.05278 -0.49027 -0.04537 C -0.49322 -0.04144 -0.49097 -0.04236 -0.49288 -0.0382 C -0.50208 -0.01713 -0.50399 0.00602 -0.50815 0.02963 C -0.51059 0.06041 -0.50694 0.10185 -0.51788 0.13078 C -0.51909 0.14143 -0.51579 0.16458 -0.52413 0.17129 C -0.5269 0.17361 -0.53159 0.17291 -0.53402 0.17615 E">
                                      <p:cBhvr>
                                        <p:cTn id="599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0046 C -0.00139 -0.0118 -0.00122 -0.02477 -0.00451 -0.03634 C -0.00625 -0.04213 -0.00642 -0.04004 -0.00903 -0.04467 C -0.0184 -0.06042 -0.02917 -0.07546 -0.04201 -0.08634 C -0.04792 -0.09745 -0.05556 -0.10648 -0.06267 -0.11597 C -0.06424 -0.11805 -0.06823 -0.12176 -0.06979 -0.1243 C -0.07483 -0.13217 -0.07986 -0.14375 -0.08767 -0.14583 C -0.09045 -0.14954 -0.09271 -0.15254 -0.09653 -0.15417 C -0.10938 -0.16643 -0.09219 -0.15092 -0.10365 -0.15879 C -0.10451 -0.15926 -0.10486 -0.16065 -0.10556 -0.16134 C -0.11024 -0.16504 -0.11389 -0.16667 -0.11892 -0.16829 C -0.12188 -0.17106 -0.12448 -0.17176 -0.12778 -0.17315 C -0.13299 -0.17963 -0.13941 -0.18217 -0.14566 -0.18634 C -0.14722 -0.1875 -0.14861 -0.18889 -0.15017 -0.18981 C -0.15191 -0.19074 -0.15556 -0.19213 -0.15556 -0.19213 C -0.1592 -0.19745 -0.16476 -0.19514 -0.16979 -0.19699 C -0.17309 -0.19815 -0.17951 -0.20046 -0.17951 -0.20046 C -0.1849 -0.20417 -0.19063 -0.20486 -0.19653 -0.20648 C -0.20295 -0.21065 -0.20903 -0.2125 -0.21615 -0.21366 C -0.22153 -0.21458 -0.23229 -0.21597 -0.23229 -0.21597 C -0.24149 -0.21898 -0.25069 -0.22083 -0.2599 -0.2243 C -0.27517 -0.23704 -0.32396 -0.23356 -0.33403 -0.23379 C -0.3467 -0.24097 -0.36267 -0.24004 -0.37604 -0.24097 C -0.39132 -0.24745 -0.41042 -0.2456 -0.42691 -0.24699 C -0.44201 -0.24606 -0.45365 -0.24329 -0.46806 -0.23866 C -0.47622 -0.23611 -0.48368 -0.23032 -0.49201 -0.22801 C -0.5 -0.2206 -0.5099 -0.21852 -0.51806 -0.2125 C -0.52413 -0.2081 -0.52951 -0.19861 -0.53576 -0.19583 C -0.5401 -0.19004 -0.54427 -0.18403 -0.54931 -0.17917 C -0.55278 -0.17199 -0.55955 -0.16157 -0.56528 -0.15648 C -0.57031 -0.14583 -0.56753 -0.14907 -0.5724 -0.14467 C -0.57448 -0.13565 -0.57986 -0.1287 -0.58403 -0.12083 C -0.58802 -0.11319 -0.5908 -0.10463 -0.59566 -0.09815 C -0.5974 -0.0919 -0.59792 -0.09097 -0.60191 -0.0875 C -0.60729 -0.07616 -0.61615 -0.06829 -0.62326 -0.05879 C -0.62899 -0.05116 -0.63646 -0.03819 -0.64306 -0.03264 C -0.64601 -0.02708 -0.64844 -0.02199 -0.65191 -0.01713 C -0.65365 -0.01042 -0.65712 -0.00625 -0.6599 -0.00046 C -0.66094 0.00486 -0.66285 0.00556 -0.66441 0.01019 C -0.66545 0.01366 -0.66545 0.01759 -0.66701 0.02083 C -0.66979 0.02639 -0.67378 0.03588 -0.67691 0.04121 C -0.67917 0.04491 -0.68542 0.05162 -0.68854 0.05301 C -0.69028 0.05371 -0.69392 0.05533 -0.69392 0.05533 C -0.69757 0.0588 -0.70104 0.0625 -0.70451 0.06621 C -0.70712 0.06898 -0.70747 0.07176 -0.71076 0.07338 C -0.71528 0.07871 -0.71076 0.07431 -0.72153 0.07685 C -0.72344 0.07732 -0.725 0.07871 -0.72691 0.07917 C -0.72865 0.07963 -0.73056 0.07986 -0.73229 0.08033 C -0.74045 0.08472 -0.73403 0.08171 -0.75278 0.08171 E">
                                      <p:cBhvr>
                                        <p:cTn id="603" dur="1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-0.00092 C 0.00591 -0.01041 0.00608 -0.02106 0.0073 -0.03079 C 0.00678 -0.05069 0.01007 -0.10092 -0.00885 -0.11412 C -0.01128 -0.11852 -0.01284 -0.12176 -0.01684 -0.12361 C -0.02187 -0.12986 -0.02569 -0.13055 -0.03211 -0.1331 C -0.03906 -0.13935 -0.04982 -0.1419 -0.05798 -0.14375 C -0.06128 -0.14514 -0.06423 -0.14676 -0.0677 -0.14745 C -0.07309 -0.14838 -0.08385 -0.14977 -0.08385 -0.14977 C -0.09218 -0.15231 -0.10052 -0.15278 -0.10885 -0.15463 C -0.11197 -0.15532 -0.11458 -0.15671 -0.1177 -0.1581 C -0.11857 -0.15856 -0.12048 -0.15926 -0.12048 -0.15926 C -0.13125 -0.15833 -0.13906 -0.15648 -0.14895 -0.15208 C -0.15017 -0.14815 -0.1493 -0.14954 -0.15086 -0.14745 E">
                                      <p:cBhvr>
                                        <p:cTn id="607" dur="1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332000" y="1916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dLib BT"/>
              </a:rPr>
              <a:t>Pregunta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488840" y="3429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332000" y="1916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dLib BT"/>
              </a:rPr>
              <a:t>Graci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11253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Ejecucion de un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59640" y="2309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2276640"/>
            <a:ext cx="3602160" cy="3960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7080" y="2924280"/>
            <a:ext cx="345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namic link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ocate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ma la informacion de au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oquea el b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 la link_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icializa la g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pea y reloquea las librerias   que necesita el b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jecuta el entry point del programa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2708280"/>
            <a:ext cx="360036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2276640"/>
            <a:ext cx="3456000" cy="93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2637000"/>
            <a:ext cx="345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6000" y="2276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6360" y="27082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jecuta el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3500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9810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What is EL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47640" y="2276640"/>
            <a:ext cx="66963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to de b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ponible en mas de 30 platafo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tilizado para 4 tipo de arch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Relocate Objec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Execu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Dynamic Execu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Core dump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981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ELF Basic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2276640"/>
            <a:ext cx="4824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f32_Eh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ident[EI_NIDEN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e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phof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ph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981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ELF Basic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1916280"/>
            <a:ext cx="61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f32_Ph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PT_LOAD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PT_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PT_PHDR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PT_INT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flags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offse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vadd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files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mems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alig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bteniendo informacion de un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1773360"/>
            <a:ext cx="766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YNAMIC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encuentra en Phdr como PT_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ray de Elf32_D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 utiliza el rtld para obtener informacion para la resolucion d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3357720"/>
            <a:ext cx="7561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on Interes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PLTG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HA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STR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SYM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JMPR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INIT, DT_FINI, DT_STRSZ, DT_S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ynamic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177336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son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encontrarlo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c.so.6\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deregister_frame_info\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TA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eglo de symbols Elf32_S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_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_inf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141720"/>
            <a:ext cx="3384360" cy="936720"/>
          </a:xfrm>
          <a:prstGeom prst="rect">
            <a:avLst/>
          </a:prstGeom>
          <a:noFill/>
          <a:ln w="2844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18:02:45Z</dcterms:created>
  <dc:creator>Cristian L. Mata</dc:creator>
  <dc:description/>
  <dc:language>en-US</dc:language>
  <cp:lastModifiedBy>Tiago Assumpcao</cp:lastModifiedBy>
  <dcterms:modified xsi:type="dcterms:W3CDTF">2003-04-02T15:10:32Z</dcterms:modified>
  <cp:revision>83</cp:revision>
  <dc:subject/>
  <dc:title>Diapositiva 1</dc:title>
</cp:coreProperties>
</file>